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095-99C8-427E-A03F-11B28AF0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6F0-8816-42FB-B2DB-186C0F32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874-E98C-4F8B-B648-5CDED294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D1C-9598-4EBE-8580-731D9DB3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25CC-3594-432A-B35E-8607AC90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3F27-6E40-4698-A697-8404804C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FA18-33F2-4FF3-94FA-2EA64E84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37E6-9390-4B15-A0D3-277DA7EE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E74B-E09B-4CE7-90F7-3BB3CAE7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78D7-AC38-48A9-99E7-FF901E2C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8DAE-5AC1-4810-AD1F-55FDFB04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D3E-5416-449C-B366-7EA01FED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56C9-7C95-4E6A-A016-95803AA0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0AB6-F83D-4E42-9052-4A77D55C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9714-6F2A-4A87-AAAF-49B2EE11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A9FC-9856-45B2-92EE-3650A037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5D90-6D7B-4134-A9FC-8A92CFDA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354-B8FB-4552-B4BD-BED43C96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F06-7BF8-468A-944F-74743431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774-B9F4-4221-B61D-6E4B6DDB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58F-7067-4292-9069-87177000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4698-3BB1-4387-B97B-4ADB9AD8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2FDD-DDC0-4124-B31C-A53D8F4D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D9C-7B6C-4A29-88EA-592DF6A7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3EE5-CDD6-4721-83E6-8DB3BFF2DC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13F6-9DC0-4ED9-AFC1-B712C8012F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280" y="1143000"/>
            <a:ext cx="7139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Cell injury and Cellular Adaptive Changes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7770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artment of 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culty of 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versity of Kragujev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5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trophy</a:t>
            </a: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sl-SI" sz="3000" spc="-1" strike="noStrike">
                <a:solidFill>
                  <a:srgbClr val="303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reversible </a:t>
            </a:r>
            <a:r>
              <a:rPr b="1" lang="sl-SI" sz="3000" spc="-1" strike="noStrike">
                <a:solidFill>
                  <a:srgbClr val="303000"/>
                </a:solidFill>
                <a:latin typeface="Times New Roman"/>
              </a:rPr>
              <a:t>cell size reduction)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44280"/>
            <a:ext cx="8130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of atrop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ecreased work loa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use atrop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oss of nerve supp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ervation atrop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ecreased blood su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reduced endocrine stimulation </a:t>
            </a:r>
            <a:br>
              <a:rPr sz="3200"/>
            </a:b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303000"/>
                </a:solidFill>
                <a:latin typeface="Times New Roman"/>
              </a:rPr>
              <a:t>uterine atrophy after menopause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gin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ile atrop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872480" y="3414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ypertrophy</a:t>
            </a:r>
            <a:br>
              <a:rPr sz="4200"/>
            </a:br>
            <a:r>
              <a:rPr b="1" lang="sl-SI" sz="2900" spc="-1" strike="noStrike">
                <a:solidFill>
                  <a:srgbClr val="303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03000"/>
                </a:solidFill>
                <a:latin typeface="Times New Roman"/>
              </a:rPr>
              <a:t>increased cell size</a:t>
            </a:r>
            <a:r>
              <a:rPr b="1" lang="sl-SI" sz="2900" spc="-1" strike="noStrike">
                <a:solidFill>
                  <a:srgbClr val="303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83170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s of hypertroph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hysiological</a:t>
            </a:r>
            <a:r>
              <a:rPr b="0" lang="en-US" sz="36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hypertr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muscle hypertrophy in athle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athological</a:t>
            </a:r>
            <a:r>
              <a:rPr b="0" lang="en-US" sz="36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hypertr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left heart ventricular hypertrophy due to the arterial      hyperten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mpensatory</a:t>
            </a:r>
            <a:r>
              <a:rPr b="0" lang="en-US" sz="36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hypertr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in paired organs, hypertrophy of remaining kidne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yperplasia</a:t>
            </a:r>
            <a:br>
              <a:rPr sz="4200"/>
            </a:br>
            <a:r>
              <a:rPr b="1" lang="sl-SI" sz="3800" spc="-1" strike="noStrike">
                <a:solidFill>
                  <a:srgbClr val="303000"/>
                </a:solidFill>
                <a:latin typeface="Times New Roman"/>
              </a:rPr>
              <a:t>(cell number increase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</a:t>
            </a:r>
            <a:r>
              <a:rPr b="0" lang="sr-C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yperplas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hysiolog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of hormonal stimulation: occurs in pregna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mpensa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 case of regeneration:when part of liver is destroy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atholog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bnormal stimulation of organs with cells that are capable of regen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taplas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643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ble change in whic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ult cell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s replac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usually a response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inflammation or 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n adaptive substitution of one cell typ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ore sui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hostile environment for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Replacement of the normal ciliated goblet cells of the bronchial tree by squamous epithelial cells in chronic smo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splas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6820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the appearance of cells that have undergone so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ypical chang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sponse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typical hyperplasi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anged cell growth of specific tissue results in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bnormal size, shape, and app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ontrolled reproduction of cells, b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ely related to malignant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ithelial cells are common sites for dysplastic changes: Bronchial epithelium, Cervical epithelium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Cell inju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injury can b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leth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th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lethal injur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ters function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ithout causing cell de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of cell injury are the same causes of cellular adaptiv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Causes of cell in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5412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hysical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65300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hemic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ic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Biologic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uses, bacteria, fungi, protoz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ss /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To remember the causes of cell injury, think of how the injury tipped (or TIPD) the homeostasis: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in or other lethal (cytotoxic)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sical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it, or lack of water, oxygen, or nutr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3313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ell injury by…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Free oxygen radic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Hypoxia / isch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1. Free oxygen radicals</a:t>
            </a:r>
            <a:br>
              <a:rPr sz="44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unpaired electr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electron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paired electr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cause of th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st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tends to go into a stabl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free radicals are formed in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s with molecules from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ree radicals also react with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ctur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cont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ve cel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and mechanism of reversible cell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and mechanism of irreversible cell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s of cell death: apoptosis and nec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</a:rPr>
              <a:t>Free radicals can form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physiological cond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g phagocyt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action of etiologic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</a:rPr>
              <a:t>Free radical formation increases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1676160"/>
            <a:ext cx="831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rption of ionizing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ctivation of free radical elimination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schemic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ment of normal blood flow in isch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sue (reperfusion inj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4859280" y="4314960"/>
            <a:ext cx="428472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ree radicals react with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c3300"/>
                </a:solidFill>
                <a:latin typeface="Times New Roman"/>
              </a:rPr>
              <a:t>DN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molecule breaks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roteins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cleavage polypeptide cha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ipids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</a:rPr>
              <a:t>(lipid peroxidation occu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174680" y="100980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900000" y="228600"/>
            <a:ext cx="7488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174680" y="100980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3"/>
          <p:cNvSpPr/>
          <p:nvPr/>
        </p:nvSpPr>
        <p:spPr>
          <a:xfrm>
            <a:off x="4572000" y="1905120"/>
            <a:ext cx="2362320" cy="459720"/>
          </a:xfrm>
          <a:prstGeom prst="borderCallout1">
            <a:avLst>
              <a:gd name="adj1" fmla="val 18750"/>
              <a:gd name="adj2" fmla="val -8333"/>
              <a:gd name="adj3" fmla="val 247726"/>
              <a:gd name="adj4" fmla="val -104296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  <a:effectLst>
            <a:outerShdw dist="17819" dir="2700000" blurRad="0" rotWithShape="0">
              <a:srgbClr val="ffff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881360" y="2911320"/>
            <a:ext cx="217440" cy="2764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042920" y="228600"/>
            <a:ext cx="756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179360" y="1014480"/>
            <a:ext cx="2178360" cy="54784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"/>
          <p:cNvSpPr/>
          <p:nvPr/>
        </p:nvSpPr>
        <p:spPr>
          <a:xfrm>
            <a:off x="4572000" y="2610000"/>
            <a:ext cx="2808360" cy="459720"/>
          </a:xfrm>
          <a:prstGeom prst="borderCallout1">
            <a:avLst>
              <a:gd name="adj1" fmla="val 18750"/>
              <a:gd name="adj2" fmla="val -8333"/>
              <a:gd name="adj3" fmla="val 189277"/>
              <a:gd name="adj4" fmla="val -97958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  <a:effectLst>
            <a:outerShdw dist="17819" dir="2700000" blurRad="0" rotWithShape="0">
              <a:srgbClr val="ffff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 d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9000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170000" y="102240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"/>
          <p:cNvSpPr/>
          <p:nvPr/>
        </p:nvSpPr>
        <p:spPr>
          <a:xfrm>
            <a:off x="5435640" y="2205000"/>
            <a:ext cx="3155760" cy="825480"/>
          </a:xfrm>
          <a:prstGeom prst="borderCallout1">
            <a:avLst>
              <a:gd name="adj1" fmla="val 18750"/>
              <a:gd name="adj2" fmla="val -8333"/>
              <a:gd name="adj3" fmla="val 327981"/>
              <a:gd name="adj4" fmla="val -101949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inter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71640" y="228600"/>
            <a:ext cx="7632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168560" y="1014480"/>
            <a:ext cx="2178000" cy="54784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4572000" y="1676520"/>
            <a:ext cx="2514600" cy="459720"/>
          </a:xfrm>
          <a:prstGeom prst="borderCallout1">
            <a:avLst>
              <a:gd name="adj1" fmla="val 18750"/>
              <a:gd name="adj2" fmla="val -8333"/>
              <a:gd name="adj3" fmla="val 57351"/>
              <a:gd name="adj4" fmla="val -61962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2178360" cy="54784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4"/>
          <p:cNvSpPr/>
          <p:nvPr/>
        </p:nvSpPr>
        <p:spPr>
          <a:xfrm>
            <a:off x="4724280" y="3159000"/>
            <a:ext cx="2362320" cy="825480"/>
          </a:xfrm>
          <a:prstGeom prst="borderCallout1">
            <a:avLst>
              <a:gd name="adj1" fmla="val 18750"/>
              <a:gd name="adj2" fmla="val -8333"/>
              <a:gd name="adj3" fmla="val -115296"/>
              <a:gd name="adj4" fmla="val -75513"/>
            </a:avLst>
          </a:prstGeom>
          <a:solidFill>
            <a:srgbClr val="cdc7c2"/>
          </a:solidFill>
          <a:ln w="28440">
            <a:solidFill>
              <a:srgbClr val="1822c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-stranded br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990720" y="1905120"/>
            <a:ext cx="533160" cy="152280"/>
          </a:xfrm>
          <a:prstGeom prst="line">
            <a:avLst/>
          </a:prstGeom>
          <a:ln w="2844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adiation-induced DNA damag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F3-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5400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353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Hypoxia-induced injur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459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xia can result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fficient oxygen concentration in the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and cardiovascular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inability to utilize oxy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 hypoxia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s oxidative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erobic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glyco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zymes are ac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ic acid is accumulated an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is lo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educed AT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dequate functioning of the Na-K p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centration and water in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cell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age of cell and cell orga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Once again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differences between reversiable and irreversible cell injuries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Reversible vs. Irreversible Cell inju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. Reversible cell injury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rever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ause of injury is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Ischem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fers to a critical lack of blood supply to a localized are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gina pector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ccurs in the presence of atherosclerosis in the blood vess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2. Irreversible cell injury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not be cor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cause has been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ar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calized area of tissue death due to lack of blood supp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Reversible and irreversible cell injur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3" name="Picture 6" descr="S01871-001-f008"/>
          <p:cNvPicPr/>
          <p:nvPr/>
        </p:nvPicPr>
        <p:blipFill>
          <a:blip r:embed="rId1"/>
          <a:stretch/>
        </p:blipFill>
        <p:spPr>
          <a:xfrm>
            <a:off x="1619280" y="1612800"/>
            <a:ext cx="6553080" cy="524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Irreversible cell injury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ll dea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r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pt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397512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39640" y="620640"/>
          <a:ext cx="8153640" cy="5799240"/>
        </p:xfrm>
        <a:graphic>
          <a:graphicData uri="http://schemas.openxmlformats.org/drawingml/2006/table">
            <a:tbl>
              <a:tblPr/>
              <a:tblGrid>
                <a:gridCol w="3888000"/>
                <a:gridCol w="426564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rosi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optosi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thological appea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ological or pathological appea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swel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size red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ludes a group of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ludes only one c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gulation necr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omatin conden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gradation of cellular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ion of apoptotic bod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ce of inflam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7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ence of inflam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70000"/>
                      </a:solidFill>
                    </a:lnR>
                    <a:lnT w="5760">
                      <a:solidFill>
                        <a:srgbClr val="e70000"/>
                      </a:solidFill>
                    </a:lnT>
                    <a:lnB w="5760">
                      <a:solidFill>
                        <a:srgbClr val="e70000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70c0"/>
                </a:solidFill>
                <a:latin typeface="Times New Roman"/>
              </a:rPr>
              <a:t>Apoptosi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pt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rogrammed cell dea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ctiv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occur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o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holog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ned t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a singl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cell death program is activated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06668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066680" y="1676520"/>
            <a:ext cx="77724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by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inding the activating ligand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o the receptor at the target cell membrane </a:t>
            </a:r>
            <a:r>
              <a:rPr b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extrinsic path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 absence of a stimulus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hormone or cytokine) necessary for cell survival </a:t>
            </a:r>
            <a:r>
              <a:rPr b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intrinsic path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574800" y="26028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굴림"/>
              </a:rPr>
              <a:t>Apopt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3400" y="1069920"/>
            <a:ext cx="68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extrinsic pathway           intrinsic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4"/>
          <p:cNvSpPr/>
          <p:nvPr/>
        </p:nvSpPr>
        <p:spPr>
          <a:xfrm>
            <a:off x="2451240" y="1790640"/>
            <a:ext cx="1511280" cy="5335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952" h="336">
                <a:moveTo>
                  <a:pt x="136" y="0"/>
                </a:moveTo>
                <a:cubicBezTo>
                  <a:pt x="68" y="44"/>
                  <a:pt x="0" y="88"/>
                  <a:pt x="136" y="144"/>
                </a:cubicBezTo>
                <a:cubicBezTo>
                  <a:pt x="272" y="200"/>
                  <a:pt x="612" y="268"/>
                  <a:pt x="952" y="336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"/>
          <p:cNvSpPr/>
          <p:nvPr/>
        </p:nvSpPr>
        <p:spPr>
          <a:xfrm flipH="1">
            <a:off x="5418000" y="1790640"/>
            <a:ext cx="1511280" cy="533520"/>
          </a:xfrm>
          <a:custGeom>
            <a:avLst/>
            <a:gdLst>
              <a:gd name="textAreaLeft" fmla="*/ 360 w 1511280"/>
              <a:gd name="textAreaRight" fmla="*/ 1512000 w 15112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952" h="336">
                <a:moveTo>
                  <a:pt x="136" y="0"/>
                </a:moveTo>
                <a:cubicBezTo>
                  <a:pt x="68" y="44"/>
                  <a:pt x="0" y="88"/>
                  <a:pt x="136" y="144"/>
                </a:cubicBezTo>
                <a:cubicBezTo>
                  <a:pt x="272" y="200"/>
                  <a:pt x="612" y="268"/>
                  <a:pt x="952" y="336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082320" y="2652840"/>
            <a:ext cx="3493800" cy="520560"/>
          </a:xfrm>
          <a:prstGeom prst="rect">
            <a:avLst/>
          </a:prstGeom>
          <a:noFill/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굴림"/>
              </a:rPr>
              <a:t>Mitochondrial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800600" y="3276720"/>
            <a:ext cx="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49400" y="364320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굴림"/>
              </a:rPr>
              <a:t>cascade activation of caspase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4805280" y="4191120"/>
            <a:ext cx="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663560" y="4559400"/>
            <a:ext cx="62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굴림"/>
              </a:rPr>
              <a:t>cleavage of proteins and DNA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4799160" y="5078520"/>
            <a:ext cx="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022040" y="5445000"/>
            <a:ext cx="77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굴림"/>
              </a:rPr>
              <a:t>phagocytosis of apoptotic bodies, no inflam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The cell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unit of structure and function of all living be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human body - more than 75 trillion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 cells - replaced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 that have been damag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various e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lso re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940360" y="3357720"/>
            <a:ext cx="2975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Apopto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5" name="Picture 6" descr="S01871-001-f028"/>
          <p:cNvPicPr/>
          <p:nvPr/>
        </p:nvPicPr>
        <p:blipFill>
          <a:blip r:embed="rId1"/>
          <a:stretch/>
        </p:blipFill>
        <p:spPr>
          <a:xfrm>
            <a:off x="1258920" y="1413000"/>
            <a:ext cx="7416720" cy="514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issue heal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1676520"/>
            <a:ext cx="831708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l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inflammatory response is h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the two major components: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ener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placement of lost cel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sues with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ells of the same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ai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healing as a result of lost cells being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eplaced by connective tiss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r 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 common typ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healing and usually result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r form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Regener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26560" y="1628640"/>
            <a:ext cx="799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of cells to regenerate depends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ile ce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ells of the skin, lymphoi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s, bone marrow…)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divide constan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Injury to these organs is follow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pid regen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ble cel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n their ability to regenerate but do so only if the organism injured (liver cells, bone cel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manent cell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not regene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eurons and cardiac muscle cells). Damage to these cells can lead to permanent los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List the types of cellular adaptive cha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ich of the following adaptive change have higher chance of malignant trans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Hyperpl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Hypertr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Dyspl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Adaptive change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's response to inju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 the onset of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daptiv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aptive cell change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676160"/>
            <a:ext cx="820908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in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ell size, number or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ccu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normal life cyc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by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an environmental 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may b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empor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erma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istinguish: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trophy, hypertrophy, hyperplasia, metaplasia and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319040" y="800280"/>
            <a:ext cx="65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618480"/>
            <a:ext cx="8874000" cy="57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ress /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meost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                       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ell response throu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ADAP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trophy, hypertrophy, hyperplasia, metaplasia and dysplasi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ur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reversible injury occ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ll swell,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tty degeneratio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an progress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rreversible inj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crosis, apoptos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2"/>
          <p:cNvGraphicFramePr/>
          <p:nvPr/>
        </p:nvGraphicFramePr>
        <p:xfrm>
          <a:off x="900000" y="981000"/>
          <a:ext cx="770436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981000"/>
                    <a:ext cx="77043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1"/>
          <p:cNvSpPr/>
          <p:nvPr/>
        </p:nvSpPr>
        <p:spPr>
          <a:xfrm>
            <a:off x="1869840" y="276120"/>
            <a:ext cx="614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The outcome of cellular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6:53:45Z</dcterms:created>
  <dc:creator>Simonovic</dc:creator>
  <dc:description/>
  <dc:language>en-US</dc:language>
  <cp:lastModifiedBy>User</cp:lastModifiedBy>
  <dcterms:modified xsi:type="dcterms:W3CDTF">2023-10-28T17:54:01Z</dcterms:modified>
  <cp:revision>192</cp:revision>
  <dc:subject/>
  <dc:title>POVREDA ĆELIJE  REAKCIJA ĆELIJE NA POVREDU</dc:title>
</cp:coreProperties>
</file>