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0C8-6C47-4373-93EC-F059EC7E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235A-46B2-401D-9C1E-45E0711A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C4D-9FCF-4E6E-A4B9-30BC32FF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65F-6EB2-4AE2-81C9-4CAD51F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A2F-B293-4623-81F4-0DBCAE7F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E1A-7B3F-4FF6-8B8E-50883CFC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9A1-1463-4D89-B069-4776B1DB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4E9-A09C-4717-9B1F-A8B6C88A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6F90-FD67-433C-8766-E5073730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4FBA-EA7C-48FE-AF7E-13237A4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B68C-FED0-4245-B35A-882781C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87B-7939-4CF5-B9F8-8E98DCA0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7C86-B9DB-41F8-BE7C-9D1702A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848-4B6D-4F0E-878B-6A2D381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3161-AC28-4DA4-B72D-EA6B5F5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265-64EA-473F-8663-EF01488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36A3-5F54-42DB-9E68-CA49F3B1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5859-C6EC-4362-B54E-0F0B30E8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AB8-B054-480B-86D2-7D395E4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EE5-1277-442C-B4F4-B5476E62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0A0-2A0B-40CF-9F55-0CC458B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092-4B54-483C-8197-47DE980B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C2C-2545-41E3-A478-51821846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78F-4D3A-4610-8473-4662D28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238-5504-4B2F-89B0-D85B55A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9DC-3BAF-4F74-977B-8D4629A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BA9-EAFF-4C64-AF2E-CC57B521AB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213-29F6-48FA-BD85-745377B7F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Introduction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to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 pathoph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sr-Latn-RS" sz="4800" spc="-1" strike="noStrike">
                <a:solidFill>
                  <a:srgbClr val="330033"/>
                </a:solidFill>
                <a:latin typeface="Times New Roman"/>
              </a:rPr>
              <a:t>siolog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iological factors can b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imary (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in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secondary (helping)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ending o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rom the external environment or the organism itself)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vided into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xogenous</a:t>
            </a:r>
            <a:r>
              <a:rPr b="0" lang="sr-Latn-RS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endogenou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ologic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xogenous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 etiological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trauma,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, pressure, irradiation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ag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sons, drug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Biological agents (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roorganism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: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eri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sit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al imbalanc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9909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tiological fact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ed (transmitted from the parents to their children through the ge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nital (present from the bi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en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lo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ndogenous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factors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Inherite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conditions that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down to you from your parent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mophi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disorder that leads to excessive bleeding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Metabolic disor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ormalities in the chemical signaling and interaction in the body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abetes mellitu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lood sugar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Problems with immunity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reaction of the immune syste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Pathogenesis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87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atho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pain, suffering, distres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onset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involved in disease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 and disease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Example of p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athogenesi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957240"/>
            <a:ext cx="83584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FT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stic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rosis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smembrane </a:t>
            </a:r>
            <a:r>
              <a:rPr b="1" lang="sr-Latn-RS" sz="3200" spc="-1" strike="noStrike">
                <a:solidFill>
                  <a:srgbClr val="0070c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964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TR controls the movement of chloride ion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exocrine glands </a:t>
            </a: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lumen 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(biliary tract, bronchial glands, small intestine,tes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e64f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e64f0c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</a:rPr>
              <a:t>the epithelial cells of the sweat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6"/>
          <p:cNvGrpSpPr/>
          <p:nvPr/>
        </p:nvGrpSpPr>
        <p:grpSpPr>
          <a:xfrm>
            <a:off x="4522680" y="1816200"/>
            <a:ext cx="4054680" cy="4352760"/>
            <a:chOff x="4522680" y="1816200"/>
            <a:chExt cx="4054680" cy="4352760"/>
          </a:xfrm>
        </p:grpSpPr>
        <p:pic>
          <p:nvPicPr>
            <p:cNvPr id="138" name="Rectangle 6" descr=""/>
            <p:cNvPicPr/>
            <p:nvPr/>
          </p:nvPicPr>
          <p:blipFill>
            <a:blip r:embed="rId1"/>
            <a:stretch/>
          </p:blipFill>
          <p:spPr>
            <a:xfrm>
              <a:off x="4522680" y="1816200"/>
              <a:ext cx="405468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27720" y="1824120"/>
              <a:ext cx="4044960" cy="43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Cystic fibrosis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aused by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of mu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opies of the gene for the CFT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nnel is primarily responsible f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the movement of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inside to outside of the c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the sweat ducts, it controls the movement of chlorid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from the sweat duct into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FT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cretions which are usually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</a:rPr>
              <a:t>thin become thick and stic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24000" y="54144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Function of </a:t>
            </a:r>
            <a:r>
              <a:rPr b="0" lang="sr-Latn-CS" sz="4400" spc="-1" strike="noStrike">
                <a:solidFill>
                  <a:srgbClr val="0070c0"/>
                </a:solidFill>
                <a:latin typeface="Times New Roman"/>
              </a:rPr>
              <a:t> CFTR 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</a:rPr>
              <a:t>protein </a:t>
            </a:r>
            <a:r>
              <a:rPr b="0" lang="sr-Latn-RS" sz="3600" spc="-1" strike="noStrike">
                <a:solidFill>
                  <a:srgbClr val="330033"/>
                </a:solidFill>
                <a:latin typeface="Times New Roman"/>
              </a:rPr>
              <a:t>(CFTR gene, chromosome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5"/>
          <p:cNvGrpSpPr/>
          <p:nvPr/>
        </p:nvGrpSpPr>
        <p:grpSpPr>
          <a:xfrm>
            <a:off x="822240" y="1292400"/>
            <a:ext cx="7248600" cy="4809960"/>
            <a:chOff x="822240" y="1292400"/>
            <a:chExt cx="7248600" cy="4809960"/>
          </a:xfrm>
        </p:grpSpPr>
        <p:pic>
          <p:nvPicPr>
            <p:cNvPr id="144" name="Rectangle 5" descr=""/>
            <p:cNvPicPr/>
            <p:nvPr/>
          </p:nvPicPr>
          <p:blipFill>
            <a:blip r:embed="rId1"/>
            <a:stretch/>
          </p:blipFill>
          <p:spPr>
            <a:xfrm>
              <a:off x="822240" y="1292400"/>
              <a:ext cx="724860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26920" y="1295280"/>
              <a:ext cx="7239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Clinical picture of cystic fibro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7" name="Picture 23" descr="GD110014"/>
          <p:cNvPicPr/>
          <p:nvPr/>
        </p:nvPicPr>
        <p:blipFill>
          <a:blip r:embed="rId1"/>
          <a:srcRect l="3447" t="0" r="0" b="0"/>
          <a:stretch/>
        </p:blipFill>
        <p:spPr>
          <a:xfrm>
            <a:off x="214200" y="1517760"/>
            <a:ext cx="508176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271600" y="2449440"/>
            <a:ext cx="57240" cy="98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266920" y="3249720"/>
            <a:ext cx="57240" cy="9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233440" y="3306600"/>
            <a:ext cx="57240" cy="748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459440" y="1008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llb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39120" y="24591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le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H="1">
            <a:off x="2778120" y="2790720"/>
            <a:ext cx="37944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049480" y="1293840"/>
            <a:ext cx="4140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1400" y="22147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ystic 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Times New Roman"/>
              </a:rPr>
              <a:t>of du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 flipV="1">
            <a:off x="1327320" y="2577600"/>
            <a:ext cx="903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295960" y="1571760"/>
            <a:ext cx="401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ty s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ually the first 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ck, viscous secretion cove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and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m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71680" y="5003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 flipV="1">
            <a:off x="1709640" y="4452840"/>
            <a:ext cx="41616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ctur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2960" y="1500120"/>
            <a:ext cx="812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of 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urse (stages of the disease) and the outcom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the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process of known etiology and pathogenesis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presence by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pecific cellular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issue damag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inic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ymptoms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jectiv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</a:rPr>
              <a:t> evidence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f a dise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other people only know about them if informed by the individual with the condi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(back pain, fatigue etc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igns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 ev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disease, such as a skin rash or a coug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mptoms and signs of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seas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esults fro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or decrease in metabolism or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function such as 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function such as increased mucus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mechanical function such as a 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cation of diseases according to the cours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up to seven day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ubacu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 from seven days to 6 week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s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lasting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longer then 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ectively…</a:t>
            </a:r>
            <a:r>
              <a:rPr b="0" lang="sr-Latn-R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ms of the diseas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ubclinical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(lat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ild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a disease with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learly expressed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severe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erminal degre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a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e distinguish the following stages of the disease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tent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 between exposure to etiological factor(s) and first symptoms/signs (in infectious diseases it is incubation period) - no manifestations of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ntroductory or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rodromal</a:t>
            </a:r>
            <a:r>
              <a:rPr b="1" lang="sr-Latn-R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and symptoms are usually mild and nonspecific like fatigue, fever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manifest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 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expressed disease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ypical location of pain, typical skin changes, changes in plasma concentrations of minerals and other substances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disease </a:t>
            </a:r>
            <a:r>
              <a:rPr b="1" lang="en-US" sz="24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gression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 recovery of normal functions of the body 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</a:t>
            </a:r>
            <a:r>
              <a:rPr b="1" lang="sr-Latn-R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stage</a:t>
            </a:r>
            <a:r>
              <a:rPr b="1" lang="en-US" sz="24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ease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e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ding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tio ad integrum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in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h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ransition to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logic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lethal outcome </a:t>
            </a:r>
            <a:r>
              <a:rPr b="0" lang="en-US" sz="32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or death of th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us letal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786120" y="4203720"/>
            <a:ext cx="2421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1. What 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is </a:t>
            </a:r>
            <a:r>
              <a:rPr b="0" lang="sk-SK" sz="4400" spc="-1" strike="noStrike">
                <a:solidFill>
                  <a:srgbClr val="0070c0"/>
                </a:solidFill>
                <a:latin typeface="Times New Roman"/>
              </a:rPr>
              <a:t>the pathophysiology</a:t>
            </a:r>
            <a:r>
              <a:rPr b="0" lang="en-US" sz="4400" spc="-1" strike="noStrike">
                <a:solidFill>
                  <a:srgbClr val="0070c0"/>
                </a:solidFill>
                <a:latin typeface="Times New Roman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derives from Greek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pathos = disease, pain, suffering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fysis = nature; </a:t>
            </a:r>
            <a:r>
              <a:rPr b="0" i="1" lang="sk-SK" sz="3200" spc="-1" strike="noStrike">
                <a:solidFill>
                  <a:srgbClr val="0d0d0d"/>
                </a:solidFill>
                <a:latin typeface="Times New Roman"/>
              </a:rPr>
              <a:t>an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logos =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0070c0"/>
                </a:solidFill>
                <a:latin typeface="Times New Roman"/>
              </a:rPr>
              <a:t>Definition of pathophysi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 biomedical science dealing with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functional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changes in diseased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It studies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isordered or </a:t>
            </a:r>
            <a:r>
              <a:rPr b="0" lang="sk-SK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ltered functions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-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the physiologic mechanisms</a:t>
            </a:r>
            <a:r>
              <a:rPr b="0" lang="sr-Latn-RS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altered</a:t>
            </a:r>
            <a:r>
              <a:rPr b="0" lang="sk-SK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d0d0d"/>
                </a:solidFill>
                <a:latin typeface="Times New Roman"/>
              </a:rPr>
              <a:t>by disease in the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d0d0d"/>
                </a:solidFill>
                <a:latin typeface="Times New Roman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bject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r>
              <a:rPr b="0" lang="en-U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of pathophysiology</a:t>
            </a:r>
            <a:r>
              <a:rPr b="0" lang="sr-Latn-RS" sz="3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r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</a:t>
            </a:r>
            <a:r>
              <a:rPr b="0" lang="en-US" sz="32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the mechanisms of their action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70c0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</a:rPr>
              <a:t>nternational Society for Pathophysiology (1998)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Pathophysiology is a modern </a:t>
            </a:r>
            <a:r>
              <a:rPr b="1" lang="en-GB" sz="3200" spc="-1" strike="noStrike">
                <a:solidFill>
                  <a:srgbClr val="303000"/>
                </a:solidFill>
                <a:latin typeface="Times New Roman"/>
              </a:rPr>
              <a:t>integrative biomedical science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founded on basic and clinical research that is concerned with the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mechanisms responsible for the initiation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development,</a:t>
            </a: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4f0c"/>
                </a:solidFill>
                <a:latin typeface="Times New Roman"/>
              </a:rPr>
              <a:t>and treatment of pathological processes </a:t>
            </a:r>
            <a:r>
              <a:rPr b="0" lang="en-GB" sz="3200" spc="-1" strike="noStrike">
                <a:solidFill>
                  <a:srgbClr val="303000"/>
                </a:solidFill>
                <a:latin typeface="Times New Roman"/>
              </a:rPr>
              <a:t>in humans and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lassification of pathophysiolog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Distingu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genera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</a:rPr>
              <a:t>pathophysi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It deals with general pathologic processes, involved in pathogenesis of more than one disease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, for example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inflammation,fever,shock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e64f0c"/>
                </a:solidFill>
                <a:latin typeface="Times New Roman"/>
              </a:rPr>
              <a:t>special</a:t>
            </a:r>
            <a:r>
              <a:rPr b="0" lang="sr-CS" sz="32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303000"/>
                </a:solidFill>
                <a:latin typeface="Times New Roman"/>
              </a:rPr>
              <a:t>pathophysiology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(is devoted to analysis and explanation of pathomechanisms involved in functional disturbances of the organs and systems of </a:t>
            </a:r>
            <a:r>
              <a:rPr b="0" lang="sr-Latn-RS" sz="2400" spc="-1" strike="noStrike">
                <a:solidFill>
                  <a:srgbClr val="303000"/>
                </a:solidFill>
                <a:latin typeface="Times New Roman"/>
              </a:rPr>
              <a:t>organs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hematological, neurologic, metabolic disorders, 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dysfunctions of 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respiratory</a:t>
            </a:r>
            <a:r>
              <a:rPr b="0" lang="sk-SK" sz="2400" spc="-1" strike="noStrike">
                <a:solidFill>
                  <a:srgbClr val="303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303000"/>
                </a:solidFill>
                <a:latin typeface="Times New Roman"/>
              </a:rPr>
              <a:t> etc)</a:t>
            </a:r>
            <a:r>
              <a:rPr b="0" lang="en-GB" sz="24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</a:rPr>
              <a:t>Definitions of health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94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s a state of complete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physical, psychological and social well-being,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ot just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absence of illness and incapac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ealth is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a balance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etween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he structure and function of the organism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nd the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ental experience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which enables full working ability and thus full enjoyment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The disease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is a disorder of this balance, with </a:t>
            </a:r>
            <a:r>
              <a:rPr b="0" lang="en-US" sz="2800" spc="-1" strike="noStrike">
                <a:solidFill>
                  <a:srgbClr val="e64f0c"/>
                </a:solidFill>
                <a:latin typeface="Times New Roman"/>
                <a:ea typeface="Times New Roman"/>
              </a:rPr>
              <a:t>reduced capacity </a:t>
            </a:r>
            <a:r>
              <a:rPr b="0" lang="en-US" sz="2800" spc="-1" strike="noStrike">
                <a:solidFill>
                  <a:srgbClr val="303000"/>
                </a:solidFill>
                <a:latin typeface="Times New Roman"/>
                <a:ea typeface="Times New Roman"/>
              </a:rPr>
              <a:t>for work and reduced enjoyment of life and ment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3. </a:t>
            </a:r>
            <a:r>
              <a:rPr b="0" lang="sr-Latn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is </a:t>
            </a:r>
            <a:r>
              <a:rPr b="0" lang="en-U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tiology</a:t>
            </a:r>
            <a:r>
              <a:rPr b="0" lang="sr-RS" sz="4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r>
              <a:rPr b="1" i="1" lang="en-US" sz="4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t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Deals with 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causes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(factors)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which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are involved in disease</a:t>
            </a:r>
            <a:r>
              <a:rPr b="1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onset</a:t>
            </a:r>
            <a:r>
              <a:rPr b="1" lang="sr-Latn-RS" sz="2800" spc="-1" strike="noStrike">
                <a:solidFill>
                  <a:srgbClr val="303000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and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with</a:t>
            </a:r>
            <a:r>
              <a:rPr b="0" lang="sk-SK" sz="2800" spc="-1" strike="noStrike">
                <a:solidFill>
                  <a:srgbClr val="e64f0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e64f0c"/>
                </a:solidFill>
                <a:latin typeface="Times New Roman"/>
              </a:rPr>
              <a:t>conditions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under which the causes are able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to induce disease</a:t>
            </a:r>
            <a:r>
              <a:rPr b="0" lang="sr-RS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03000"/>
                </a:solidFill>
                <a:latin typeface="Times New Roman"/>
              </a:rPr>
              <a:t>processes</a:t>
            </a:r>
            <a:r>
              <a:rPr b="0" lang="sk-SK" sz="2800" spc="-1" strike="noStrike">
                <a:solidFill>
                  <a:srgbClr val="303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0:49:51Z</dcterms:created>
  <dc:creator>Simonovic</dc:creator>
  <dc:description/>
  <dc:language>en-US</dc:language>
  <cp:lastModifiedBy>User</cp:lastModifiedBy>
  <dcterms:modified xsi:type="dcterms:W3CDTF">2023-10-28T15:19:45Z</dcterms:modified>
  <cp:revision>85</cp:revision>
  <dc:subject/>
  <dc:title>UVOD U PATOLOŠKU FIZIOLOGIJU</dc:title>
</cp:coreProperties>
</file>